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A4ED-9901-412B-A496-ADE814E4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3CBD-91FE-4539-B41E-F8AB5CF7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BDE94-146E-4456-B7CB-EEE3E41C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60823-31D5-4EFC-B44D-7872E217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0C415-0BEE-41B7-A25C-2AEE23AA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0C019-20FD-44BF-BA15-2510B036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3901B-A475-48BD-920D-76A7C003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3E08F-D466-494F-AD20-2C0B60D7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D30F3-F18A-461A-AE11-12ED22CC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880C0-3965-473E-904E-1E66B395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FEE3C-C9FF-4E3D-BB51-DD465C06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FD66A-2F58-4577-BC0E-BDE5BCFE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717C-2491-4AFD-8DB8-CE3E8077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D0A5F-1765-46FE-B4C0-59981C01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FB291-CBA1-4070-BA58-36D274C6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7E2BE-5F57-4B91-BFD1-B23166FE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8F9F4-4420-48F2-A3D5-44D33B0D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C7606-3776-4721-9073-3F34F43B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2C01C-EA32-42A7-83C8-0372913A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B1BA5-B0DD-479A-852A-E192139F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C7D89-1EE3-46E2-91A8-0186015D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14076-AC25-4B54-8693-B0B1A542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6B619-E377-4B78-9D6C-14049C01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7E8C-B0CA-4A24-BE01-F080322E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43C75-F96F-4457-B37C-F1C97783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37B25-8BBC-4C42-8DDC-90B2183D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B3990-B1E4-4F49-864B-C3CAB202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69918-99DD-4E6D-BC07-740CCAA5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0D01D-6DD0-405F-8238-0C233B76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9FDF0-08C4-4E70-A5EA-CB1E6256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8432C-D3DA-4679-9B01-8F208127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C81DB-BDB6-4CE8-985D-9D2C2D2F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5908A-F93B-43B7-A7B6-70ACD98E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A5AA6-2CF6-46D5-9841-DED1F000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5AE3-5787-4466-B62D-98F3BD94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81CD1-A5AB-4D91-B15F-AF12E3E8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C66D6-17AC-443B-AA05-2382D05F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3C4A1-6D08-4BFD-813B-0FAB5214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DDA5-A9BB-49F1-87EA-4E46321A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4763-973D-451D-B94A-C2BC02FF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18CB-070A-4F36-8FA6-358DF5DB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DA24-8D25-4568-A6BB-AACC1A65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2561-B013-43A7-906B-A9671C78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660E-B67E-41E9-801A-3540AF2D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D08B-3938-4DBF-98A9-604B543A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47E7-AB47-44D6-825E-185502B4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E518-98CD-44E9-A4E1-DED226B9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A211-03DB-4152-9C40-BC1FE3B4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809F-8F74-468B-B162-12783086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E303-B527-4E59-8D68-EFBBE1D1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3A8F3-3959-4230-BD5B-D7C12C1B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4782D-38B6-43A0-B101-2B8EA316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018A5-35E4-42B6-B851-2F872A69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2A0DF-AD4D-4EAC-8990-B1DDE981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2F09E-19FA-4E1A-A4A8-7FA56ACE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1D6-F8EB-471B-B067-A5A0D426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0A36B-2B99-4DFE-B4EE-BF5BA56A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A061B-0840-45DB-98B0-AD80B901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84707-45B7-40BD-85DA-D8EFF242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E6708-FA30-4A10-A086-478394D0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B7275-7ADF-4749-A499-4DD4DA03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D31B3-A60B-42DE-8786-82F14D2C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FA081-CE12-41AE-BAF6-8058B9B4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9C8A6-20E7-4986-860D-896197FE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08715-AC4B-4F0D-AAE7-5E115A65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6F78A-514A-41ED-96BF-9F40FB64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3792-43A3-4C72-BD99-B61DA91F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CF6A2-11F0-4CA5-8670-F93C3A23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BD93E-E894-4ABC-A878-65706E40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CAACD-B474-4346-B5AC-82302CA4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CBF9B-B799-4CCE-90BC-569342F9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C333D-28FF-4061-BFAB-824F81C0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A20FD-5478-4B59-9D11-EA43B47E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08171-7038-4CC0-B8DE-03C074C5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FF633-C68B-4D73-AFDA-8E1C1DCA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CDEE3-D3F7-4BCD-8498-1792FED3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6207D-6D0D-4B1F-8D25-A52654B5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8D99-DE4B-4167-B61F-C00BA869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0726A-A7F2-463D-883D-1EDB5BDF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5AF7D-CDF2-43E0-9EC9-82CBB5AC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E1879-3654-483D-8AC1-FB712EB8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4F95A-7E45-42DF-A29C-F0908AF0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F5349-B40F-4412-919F-8886F9DF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68C0E-CA4E-4CF6-89A5-2610DFCF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12B6A-EC3C-48FE-AB5F-EB14CC00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E95EC-7486-4F44-B4BD-625C8205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8F678-6FE5-47A4-B7DB-F9ACCF0A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0FF07-1488-4ADB-8158-02E25E22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3BA-3081-4033-8342-64DC06B5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CE70B-3BCA-4CD4-91A6-6BB4373F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99057-A9BB-4AEC-8726-483852C3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3E71F-5AFF-4348-8766-4D11DD09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51C16-F6E6-4EB5-B998-61C8CD66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BD9D1-28DF-4477-84BC-137B0A2A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6D187-C178-45A4-8A86-2B960E9F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99171-7133-4459-AD45-7E205CD7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1BF9A-AFB4-483F-AC24-F4283B23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AEE77-03F6-4DAE-BF17-BEDB9BDA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18E68-F4EF-4F36-B2F4-F331E8FC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9E3A-D553-4C0C-91D7-32171664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30FF7-9223-4AC9-89C4-9E3CA747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6D096-EB8C-4870-B894-890E1F79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7773F-A0CB-4CF1-BFAC-BABF4B96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A252F-9D86-4152-B15B-0EBEC6DD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16FCB-2078-406B-8700-6980210F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FC97A-E0DB-47F2-800D-7F602200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4BE89-F454-42DF-9FA3-200A70E2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83879-B4D3-4CD4-9CAA-4FB1C0BE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BA879-5C3B-44B8-80C6-6D9236C6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850B8-8CB9-4767-8FCC-BD24480A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B965-3D10-47F2-A460-1E5E0D1E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D8437-DD1F-4108-9A89-C51F9006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7CB31-59BB-4BEB-BAFB-DB0F3E82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3EA57-BE95-4A99-A3E5-6D34BC8F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3B5C6-92DE-430C-852B-50C633F1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07BE1-6731-48C0-88AE-52DE9518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AE1AF-2120-484C-A0E6-4CF85C0C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72A62-58AB-41CD-B8A6-BF34508A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4353D-8E70-4D5C-92B3-7CB43671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E2E10-1E9C-4804-B94B-FD1D5FDA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CE0F6-649D-4B4B-9F4D-F76F389F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BCD5-DBE7-4CD3-A40F-D5B652F3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6AE7E-37F4-41E3-BCC1-2944096C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8E49D-AF2E-4966-A3A2-C3F01D6E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1D6CC-CEC2-4D93-9FAF-00573D82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F4EE5-1B8D-4059-B852-B586CB0B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6222F-D32E-490A-96F9-3CE97F00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D5C1B-F92B-47A7-B28A-B94A7291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D47CB-7819-40D7-90DA-0ACF1D88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12F75-462F-48E2-A2AA-ECBF17FE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31FC0-F449-42CB-B18B-B40E618F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89B7D-28C2-4EBE-A60A-49EF089A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2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17760" y="801360"/>
            <a:ext cx="8634240" cy="25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415960" y="328320"/>
            <a:ext cx="4971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43784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12CF-F65E-4755-8FAA-517339F8C1EF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" name=""/>
          <p:cNvCxnSpPr/>
          <p:nvPr/>
        </p:nvCxnSpPr>
        <p:spPr>
          <a:xfrm>
            <a:off x="2417400" y="3529080"/>
            <a:ext cx="86382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403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4680" y="798120"/>
            <a:ext cx="3271680" cy="22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43240" y="798480"/>
            <a:ext cx="6010200" cy="465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FC73-5764-4654-9742-4E8733DFE382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"/>
          <p:cNvCxnSpPr/>
          <p:nvPr/>
        </p:nvCxnSpPr>
        <p:spPr>
          <a:xfrm>
            <a:off x="1447920" y="3204720"/>
            <a:ext cx="3270960" cy="252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448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grpSp>
        <p:nvGrpSpPr>
          <p:cNvPr id="449" name=""/>
          <p:cNvGrpSpPr/>
          <p:nvPr/>
        </p:nvGrpSpPr>
        <p:grpSpPr>
          <a:xfrm>
            <a:off x="7477200" y="482760"/>
            <a:ext cx="4071960" cy="5146560"/>
            <a:chOff x="7477200" y="482760"/>
            <a:chExt cx="4071960" cy="5146560"/>
          </a:xfrm>
        </p:grpSpPr>
        <p:sp>
          <p:nvSpPr>
            <p:cNvPr id="450" name=""/>
            <p:cNvSpPr/>
            <p:nvPr/>
          </p:nvSpPr>
          <p:spPr>
            <a:xfrm>
              <a:off x="7477200" y="482760"/>
              <a:ext cx="4071960" cy="5146560"/>
            </a:xfrm>
            <a:prstGeom prst="rect">
              <a:avLst/>
            </a:prstGeom>
            <a:gradFill rotWithShape="0">
              <a:gsLst>
                <a:gs pos="0">
                  <a:srgbClr val="000001"/>
                </a:gs>
                <a:gs pos="100000">
                  <a:srgbClr val="191919"/>
                </a:gs>
              </a:gsLst>
              <a:lin ang="5400000"/>
            </a:gradFill>
            <a:ln w="0">
              <a:noFill/>
            </a:ln>
            <a:effectLst>
              <a:outerShdw dist="228470" dir="4740526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90040" y="812880"/>
              <a:ext cx="3447720" cy="44640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fffffe"/>
                </a:gs>
              </a:gsLst>
              <a:lin ang="16200000"/>
            </a:gradFill>
            <a:ln w="5076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50800" y="1130400"/>
            <a:ext cx="55310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124840" y="1122120"/>
            <a:ext cx="2789280" cy="3863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5000" bIns="45000" anchor="t">
            <a:normAutofit fontScale="65000"/>
          </a:bodyPr>
          <a:p>
            <a:pPr marL="22284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1447920" y="5470560"/>
            <a:ext cx="5526000" cy="3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1447560" y="318600"/>
            <a:ext cx="5538600" cy="3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724D-0074-48E7-A568-5AC188CB640D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/>
          <p:nvPr/>
        </p:nvCxnSpPr>
        <p:spPr>
          <a:xfrm>
            <a:off x="1447920" y="3142800"/>
            <a:ext cx="5527800" cy="252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47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 fontScale="81000"/>
          </a:bodyPr>
          <a:p>
            <a:pPr marL="27756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AE1F-9637-4C90-8DEE-D8EC901CBBF1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92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438840" y="798480"/>
            <a:ext cx="1614600" cy="46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4680" y="798480"/>
            <a:ext cx="7826400" cy="46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7F49-AE71-46D4-AA34-71ADB3F9B347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9438840" y="798120"/>
            <a:ext cx="2520" cy="466164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137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DB3E-56D0-4D66-B35A-83262542FD54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182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54040" y="1755360"/>
            <a:ext cx="8640720" cy="18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53680" y="3806640"/>
            <a:ext cx="8628120" cy="1011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22000"/>
          </a:bodyPr>
          <a:p>
            <a:pPr marL="7524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916A-D9A3-4958-80C3-84876E6C07EB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/>
          <p:nvPr/>
        </p:nvCxnSpPr>
        <p:spPr>
          <a:xfrm>
            <a:off x="1454040" y="3804840"/>
            <a:ext cx="8632080" cy="252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227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9360" y="804600"/>
            <a:ext cx="96026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7920" y="2011320"/>
            <a:ext cx="464328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6495-FE1E-4179-ABFF-658785DAF820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272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7560" y="804960"/>
            <a:ext cx="960588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7920" y="2018880"/>
            <a:ext cx="4643280" cy="8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7000"/>
          </a:bodyPr>
          <a:p>
            <a:pPr marL="5832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0AC0-FD9B-4CB3-98F5-94CF22BB069F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317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dt" idx="22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ftr" idx="23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24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23D8-0704-4C28-A30B-89B6FB3EB9E6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361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362" name="PlaceHolder 1"/>
          <p:cNvSpPr>
            <a:spLocks noGrp="1"/>
          </p:cNvSpPr>
          <p:nvPr>
            <p:ph type="dt" idx="25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ftr" idx="26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27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0717-983A-4641-8B61-A450D4F7C0BB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515680" y="1398240"/>
            <a:ext cx="8636040" cy="1143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 MT"/>
              </a:rPr>
              <a:t>Journée d’Apprentissage et de Partage Culturel Africa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3146040" y="2623680"/>
            <a:ext cx="8636040" cy="644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Une initiative solidaire pour l’inclusion et l’é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239120" y="3692520"/>
            <a:ext cx="7256520" cy="23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orteur : YANLOM'S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Date :10 décembre 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Lieu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Mairie de Paris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Contact : associationyanlomsprod@gmail .com 00 33 07 83 91 46 44 /0033 0605662376/0023566999597/686876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0" y="6168960"/>
            <a:ext cx="12192120" cy="368280"/>
          </a:xfrm>
          <a:prstGeom prst="rect">
            <a:avLst/>
          </a:prstGeom>
          <a:solidFill>
            <a:srgbClr val="dfd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300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evenez Notre Partenai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"/>
          <p:cNvSpPr/>
          <p:nvPr/>
        </p:nvSpPr>
        <p:spPr>
          <a:xfrm>
            <a:off x="880920" y="1844640"/>
            <a:ext cx="1017108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0" y="6249960"/>
            <a:ext cx="1219212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450800" y="2998800"/>
          <a:ext cx="9605880" cy="441000"/>
        </p:xfrm>
        <a:graphic>
          <a:graphicData uri="http://schemas.openxmlformats.org/drawingml/2006/table">
            <a:tbl>
              <a:tblPr/>
              <a:tblGrid>
                <a:gridCol w="4803120"/>
                <a:gridCol w="4802760"/>
              </a:tblGrid>
              <a:tr h="4410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1e4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1e4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1009800" y="1432080"/>
          <a:ext cx="10173600" cy="3847680"/>
        </p:xfrm>
        <a:graphic>
          <a:graphicData uri="http://schemas.openxmlformats.org/drawingml/2006/table">
            <a:tbl>
              <a:tblPr/>
              <a:tblGrid>
                <a:gridCol w="1996920"/>
                <a:gridCol w="4088520"/>
                <a:gridCol w="4088160"/>
              </a:tblGrid>
              <a:tr h="336240">
                <a:tc>
                  <a:txBody>
                    <a:bodyPr lIns="5040" rIns="5040" tIns="5040" bIns="5040" anchor="ctr">
                      <a:noAutofit/>
                    </a:bodyPr>
                    <a:p>
                      <a:pPr algn="ctr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ive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 algn="ctr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ontant (€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 algn="ctr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trepar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32480"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Bro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go sur flyers et banderoles, mention dans les communications méd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1161000"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Ar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b5b5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b5b5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go sur tous supports, mention verbale à l’événement, stand promotionne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b5b5"/>
                    </a:solidFill>
                  </a:tcPr>
                </a:tc>
              </a:tr>
              <a:tr h="1317960"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5 000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go grand format, mention médias/réseaux sociaux, stand premium, remerciemen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146040" y="804960"/>
            <a:ext cx="790884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Ensemble, Faisons la Différ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"/>
          <p:cNvSpPr/>
          <p:nvPr/>
        </p:nvSpPr>
        <p:spPr>
          <a:xfrm>
            <a:off x="1450800" y="1544760"/>
            <a:ext cx="9603000" cy="26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Soutenez l’inclusion, l’éducation et la diversité culturelle avec YANLOM'S PR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Votre engagement offrira transport, subsistances et espoir aux plus vulnér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Contactez-nous : </a:t>
            </a:r>
            <a:r>
              <a:rPr b="0" lang="fr-FR" sz="2000" spc="-1" strike="noStrike" u="sng">
                <a:solidFill>
                  <a:srgbClr val="fa2b5c"/>
                </a:solidFill>
                <a:uFillTx/>
                <a:latin typeface="Gill Sans MT"/>
              </a:rPr>
              <a:t>associationyanlomsprod@gmail,com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, 00 33 07 83 91 46 44 /06056623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0" y="6243480"/>
            <a:ext cx="12192120" cy="456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98960" y="4502160"/>
            <a:ext cx="57927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71e42"/>
                </a:solidFill>
                <a:latin typeface="Gill Sans MT"/>
              </a:rPr>
              <a:t>Participez à une aventure solidaire et culturell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146040" y="804960"/>
            <a:ext cx="790884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Pour aller plus lo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"/>
          <p:cNvSpPr/>
          <p:nvPr/>
        </p:nvSpPr>
        <p:spPr>
          <a:xfrm>
            <a:off x="1450800" y="1544760"/>
            <a:ext cx="9603000" cy="26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4572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Annexes disponibles : Dossier complet, rapports statistiques, planning détaill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Contact : </a:t>
            </a: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Mme SOLKAM YANLOM Félicité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, Présidente YANLOM'S PROD             Mail: </a:t>
            </a:r>
            <a:r>
              <a:rPr b="0" lang="fr-FR" sz="2000" spc="-1" strike="noStrike" u="sng">
                <a:solidFill>
                  <a:srgbClr val="fa2b5c"/>
                </a:solidFill>
                <a:uFillTx/>
                <a:latin typeface="Gill Sans MT"/>
              </a:rPr>
              <a:t>associationyanlomsprod@gmail,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Tel: 00 33 07 83 91 46 4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0" y="6243480"/>
            <a:ext cx="12192120" cy="456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198960" y="4502160"/>
            <a:ext cx="57927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71e42"/>
                </a:solidFill>
                <a:latin typeface="Gill Sans MT"/>
              </a:rPr>
              <a:t>Participez à une aventure solidaire et culturell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93840" y="534600"/>
            <a:ext cx="96026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e Invitation à la Solidarité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"/>
          <p:cNvSpPr/>
          <p:nvPr/>
        </p:nvSpPr>
        <p:spPr>
          <a:xfrm>
            <a:off x="1495440" y="3746520"/>
            <a:ext cx="960264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Objectif : Promouvoir l’inclusion sociale à Paris et soutenir l’éducation en Afriqu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Partenaires visés VOUS 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5629320"/>
            <a:ext cx="12192120" cy="395280"/>
          </a:xfrm>
          <a:prstGeom prst="rect">
            <a:avLst/>
          </a:prstGeom>
          <a:solidFill>
            <a:srgbClr val="dfd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1200240" y="1096920"/>
            <a:ext cx="938520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00000"/>
                </a:solidFill>
                <a:latin typeface="Gill Sans MT"/>
              </a:rPr>
              <a:t>YANLOM'S PROD vous invite à soutenir un événement culturel et solidaire d’enverg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0" y="6202440"/>
            <a:ext cx="12192120" cy="522360"/>
          </a:xfrm>
          <a:prstGeom prst="rect">
            <a:avLst/>
          </a:prstGeom>
          <a:solidFill>
            <a:srgbClr val="b0a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79120" y="815760"/>
            <a:ext cx="960444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e Journée pour l’Inclusion et l’Espoi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45600" y="1531800"/>
            <a:ext cx="464508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Quoi ?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 Journée culturelle avec ateliers de danse, musique, conte, défilé, transport adapté et distribution de subsistance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Quand ?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 11 octobre 2025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990680" y="1531800"/>
            <a:ext cx="66531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51240" indent="-2170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Où ?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Mairie de Paris 14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51240" indent="-2170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Pourquoi ?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085760" indent="-2170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Offrir joie et dignité aux personnes vulnérables (personnes âgées, enfants en situation de handicap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085760" indent="-2170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Collecter 5 000 € pour 200 kits scolaires et 50 équipements d’assistance en Afriqu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859680" y="4484520"/>
            <a:ext cx="832644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Gill Sans MT"/>
              </a:rPr>
              <a:t>Données clées</a:t>
            </a:r>
            <a:r>
              <a:rPr b="0" lang="fr-FR" sz="1800" spc="-1" strike="noStrike">
                <a:solidFill>
                  <a:srgbClr val="ff0000"/>
                </a:solidFill>
                <a:latin typeface="Gill Sans MT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1,2M de personnes âgées isolées en France (Petits Frères des Pauvres, 202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30M d’enfants sans accès à l’éducation en Afrique (UNESCO, 202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9000" y="804600"/>
            <a:ext cx="9604440" cy="43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Qui Sommes-Nous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-360" y="1607760"/>
            <a:ext cx="1105380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600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Association fondée en 2023 à Pari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7600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Mission : Promouvoir les cultures africaines et soutenir les populations vulnérable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7600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Réalisations : Œuvres caritatives, soirées culturelles, foires, journées et atélier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7600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Valeurs : Solidarité, inclusion, diversité culturel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96012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lus de 20 événements culturels, touchant 5 000 personne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96012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artenariats avec la Mairie de Paris 14e et autres acteurs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-360" y="6141960"/>
            <a:ext cx="12192120" cy="627120"/>
          </a:xfrm>
          <a:prstGeom prst="rect">
            <a:avLst/>
          </a:prstGeom>
          <a:solidFill>
            <a:srgbClr val="b0a697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8008920" y="2027160"/>
            <a:ext cx="418320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50440" y="804960"/>
            <a:ext cx="9603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Nos Ambi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/>
          <p:nvPr/>
        </p:nvSpPr>
        <p:spPr>
          <a:xfrm>
            <a:off x="1339920" y="2016000"/>
            <a:ext cx="96026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Inclusion sociale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Rassembler 500 personnes vulnérables (personnes âgées isolées, jeunes, orphelins, enfants en situation de handica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Soutien humanitaire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Financer l’éducation et la mobilité des enfants en Afrique (Tchad, Congo, Côte d’Ivoire, Camerou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Promotion culturelle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Valoriser les traditions africa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0" y="6186600"/>
            <a:ext cx="1228392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9000" y="804600"/>
            <a:ext cx="960444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Programme et Impa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47880" y="1476360"/>
            <a:ext cx="5573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860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Activités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Ateliers : Danse africaine, musique (piano, guitare, percussions), chant, conte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Défilé en habits traditionnel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Vente solidaire de repas et boisson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Transport : Location de 2 bus pour enfants en situation de handicap et personnes âgée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Distribution : 100 paquets de subsistances (enfants et personnes âgées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51040" y="1482840"/>
            <a:ext cx="464508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Résultats attendus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500 participants à Pari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15 000 € collecté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200 kits scolaires et 50 équipements d’assistance distribué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Renforcement des liens interculturels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4400" y="6261120"/>
            <a:ext cx="1219176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300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Qui Bénéficiera de Votre Soutien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"/>
          <p:cNvSpPr/>
          <p:nvPr/>
        </p:nvSpPr>
        <p:spPr>
          <a:xfrm>
            <a:off x="1450800" y="2016000"/>
            <a:ext cx="960300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À Paris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Personnes âgées isolées, jeunes, orphelins, enfants des rues, enfants en situation de handicap (500 bénéficiaires de subsistanc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En Afrique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Enfants scolarisés ou en situation de handicap (Tchad, Congo, Côte d’Ivoire, Camerou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0" y="6249960"/>
            <a:ext cx="1219212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300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Pourquoi Soutenir ce Projet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"/>
          <p:cNvSpPr/>
          <p:nvPr/>
        </p:nvSpPr>
        <p:spPr>
          <a:xfrm>
            <a:off x="1015920" y="1616040"/>
            <a:ext cx="960300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Institutions </a:t>
            </a: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Alignement avec les ODD (Éducation, Réduction des inégalités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Visibilité international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Secteur privé </a:t>
            </a: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Renforcement de la responsabilité sociale d’entreprise (RSE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Promotion auprès d’une audience diversifié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Société civile</a:t>
            </a: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Contribution à une cause inclusive et solidair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0" y="6249960"/>
            <a:ext cx="1219212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63840" y="574200"/>
            <a:ext cx="96026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Nos besoi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-9360" y="6335640"/>
            <a:ext cx="1219176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919080" y="2324160"/>
            <a:ext cx="516744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716040" y="1957320"/>
          <a:ext cx="10243800" cy="3358800"/>
        </p:xfrm>
        <a:graphic>
          <a:graphicData uri="http://schemas.openxmlformats.org/drawingml/2006/table">
            <a:tbl>
              <a:tblPr/>
              <a:tblGrid>
                <a:gridCol w="10243800"/>
              </a:tblGrid>
              <a:tr h="33084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50 équipements d’assistance (béquilles, chaises roulantes, déambulateurs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28980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 algn="just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300 kits scolair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30888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cation de la sa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28980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cation de 2 bus pour transporter les enfants et les personnes handicapé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28980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pas ou paquets de subsistances pour bénéficiair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59544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cation instruments de musiqu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30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Kits de santé et matériel mé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28980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ébergement des artis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65448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Frais de transport Artistes bénévo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rmation des bénévo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30996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Agents de sécuri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7-28T10:28:16Z</dcterms:created>
  <dc:creator>test1</dc:creator>
  <dc:description/>
  <dc:language>en-US</dc:language>
  <cp:lastModifiedBy/>
  <dcterms:modified xsi:type="dcterms:W3CDTF">2025-10-23T18:23:01Z</dcterms:modified>
  <cp:revision>28</cp:revision>
  <dc:subject/>
  <dc:title>Journée d’Apprentissage et de Partage Culturel Africai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2</vt:r8>
  </property>
</Properties>
</file>